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AC7-34D9-47EB-9CBF-BFF14655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A44-B073-43D6-8A2A-87F108DD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B10-C47B-49AD-B979-709EB814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803-EABD-4080-889A-82245B8F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0C8C-8385-4D77-9A8C-E88E5922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762D-4C38-4BE9-8422-3397B954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A92E-1A95-4F73-9022-E0D4AB04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F51C-4BA2-4157-90A7-06F51BD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17A6-27DD-4E4D-9D96-29E9E363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676-DC09-46BA-882B-637DF13E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5D87-C991-4F43-ABDE-1B4F34A9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70F-704F-4596-A793-5BC76E72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3783-525E-40A6-899C-AF8A87C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8E8B-E868-424C-AAAA-67047DB3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4E7C-5DD2-4B1E-8B4A-B9807DE4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0354-8893-4AAB-8176-098665CA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D9F9-8958-4ADD-844E-1D5D7DA6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952-A242-4F7E-BE5A-559C45AB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3D0-4134-4D92-A175-B5A12D50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672-21C1-4616-A7A3-CC66BE87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884-7ECF-46EF-B083-CE5B21E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256-0658-4ED1-874B-F2D61D56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127-BC7E-4BF1-A8D8-22DA03FA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9FF-064D-4333-A32C-3874881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0B72-EAB2-46AA-8B33-358A363B204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B518-D4FA-467E-B241-31583466D68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21b2c8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21b2c8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Прямоугольник 10" descr=""/>
          <p:cNvPicPr/>
          <p:nvPr/>
        </p:nvPicPr>
        <p:blipFill>
          <a:blip r:embed="rId3"/>
          <a:stretch/>
        </p:blipFill>
        <p:spPr>
          <a:xfrm>
            <a:off x="274680" y="2036880"/>
            <a:ext cx="855180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00040" y="1071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Где птицы ледяной зоны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делают гнёзд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кустар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  <a:ea typeface="Arial"/>
              </a:rPr>
              <a:t>н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  <a:ea typeface="Arial"/>
              </a:rPr>
              <a:t>деревьях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00040" y="1071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Восстанови пропущенное звен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цепи питания: рачки - … - тупик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61437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ы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4"/>
          <p:cNvSpPr/>
          <p:nvPr/>
        </p:nvSpPr>
        <p:spPr>
          <a:xfrm>
            <a:off x="1000080" y="4357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доро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5"/>
          <p:cNvSpPr/>
          <p:nvPr/>
        </p:nvSpPr>
        <p:spPr>
          <a:xfrm>
            <a:off x="350028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ю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00040" y="1071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Какой зверь обитает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только в Арктик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3571920" y="5072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лый медве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4"/>
          <p:cNvSpPr/>
          <p:nvPr/>
        </p:nvSpPr>
        <p:spPr>
          <a:xfrm>
            <a:off x="714240" y="5072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6500880" y="5072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6" descr="untitled.bmp"/>
          <p:cNvPicPr/>
          <p:nvPr/>
        </p:nvPicPr>
        <p:blipFill>
          <a:blip r:embed="rId1"/>
          <a:stretch/>
        </p:blipFill>
        <p:spPr>
          <a:xfrm>
            <a:off x="3500280" y="3071880"/>
            <a:ext cx="2122560" cy="17143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7" descr="11949897431174857887orso_architetto_francesc_03_svg_hi.png"/>
          <p:cNvPicPr/>
          <p:nvPr/>
        </p:nvPicPr>
        <p:blipFill>
          <a:blip r:embed="rId2"/>
          <a:stretch/>
        </p:blipFill>
        <p:spPr>
          <a:xfrm>
            <a:off x="642960" y="3000240"/>
            <a:ext cx="2185920" cy="1643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8" descr="item_2389.jpg"/>
          <p:cNvPicPr/>
          <p:nvPr/>
        </p:nvPicPr>
        <p:blipFill>
          <a:blip r:embed="rId3"/>
          <a:stretch/>
        </p:blipFill>
        <p:spPr>
          <a:xfrm>
            <a:off x="6357960" y="2643120"/>
            <a:ext cx="189864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00040" y="1071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В состав какого океана входят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моря и острова Арктики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еверного Ледови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их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Чем занимаются люди в Арктик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Ловят ры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зводят крупный рогатый с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ращивают овощи и фр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85640" y="121428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Какое растение можно встретить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в Арктик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785880" y="314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ома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6500880" y="314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b97f58648b91.png"/>
          <p:cNvPicPr/>
          <p:nvPr/>
        </p:nvPicPr>
        <p:blipFill>
          <a:blip r:embed="rId1"/>
          <a:stretch/>
        </p:blipFill>
        <p:spPr>
          <a:xfrm>
            <a:off x="6715080" y="4500720"/>
            <a:ext cx="1567080" cy="16840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1dabad361f83.png"/>
          <p:cNvPicPr/>
          <p:nvPr/>
        </p:nvPicPr>
        <p:blipFill>
          <a:blip r:embed="rId2"/>
          <a:stretch/>
        </p:blipFill>
        <p:spPr>
          <a:xfrm>
            <a:off x="571680" y="4500720"/>
            <a:ext cx="2207880" cy="17143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9" descr="trava34.jpg"/>
          <p:cNvPicPr/>
          <p:nvPr/>
        </p:nvPicPr>
        <p:blipFill>
          <a:blip r:embed="rId3"/>
          <a:stretch/>
        </p:blipFill>
        <p:spPr>
          <a:xfrm>
            <a:off x="3638520" y="4638600"/>
            <a:ext cx="213372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1071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5395"/>
                </a:solidFill>
                <a:latin typeface="Arial"/>
                <a:ea typeface="Arial"/>
              </a:rPr>
              <a:t>Какое явление несвойственн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5395"/>
                </a:solidFill>
                <a:latin typeface="Arial"/>
                <a:ea typeface="Arial"/>
              </a:rPr>
              <a:t>Арктик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928800" y="4357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оля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т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4"/>
          <p:cNvSpPr/>
          <p:nvPr/>
        </p:nvSpPr>
        <p:spPr>
          <a:xfrm>
            <a:off x="3571920" y="3214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5"/>
          <p:cNvSpPr/>
          <p:nvPr/>
        </p:nvSpPr>
        <p:spPr>
          <a:xfrm>
            <a:off x="63579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00040" y="1071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5395"/>
                </a:solidFill>
                <a:latin typeface="Arial"/>
                <a:ea typeface="Arial"/>
              </a:rPr>
              <a:t>Какой заповедник находитс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5395"/>
                </a:solidFill>
                <a:latin typeface="Arial"/>
                <a:ea typeface="Arial"/>
              </a:rPr>
              <a:t>в зоне арктической пустыни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Скругленный прямоугольник 3"/>
          <p:cNvSpPr/>
          <p:nvPr/>
        </p:nvSpPr>
        <p:spPr>
          <a:xfrm>
            <a:off x="3643200" y="3071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4"/>
          <p:cNvSpPr/>
          <p:nvPr/>
        </p:nvSpPr>
        <p:spPr>
          <a:xfrm>
            <a:off x="1071720" y="4357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льм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5"/>
          <p:cNvSpPr/>
          <p:nvPr/>
        </p:nvSpPr>
        <p:spPr>
          <a:xfrm>
            <a:off x="63579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-ный мо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00040" y="1071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5395"/>
                </a:solidFill>
                <a:latin typeface="Arial"/>
                <a:ea typeface="Arial"/>
              </a:rPr>
              <a:t>Какая из перечисленных птиц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5395"/>
                </a:solidFill>
                <a:latin typeface="Arial"/>
                <a:ea typeface="Arial"/>
              </a:rPr>
              <a:t>обитает в Арктик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6143760" y="314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гаг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1000080" y="314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3571920" y="314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леб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:\Documents and Settings\Nastya\Мои документы\c1f5f92eceb1.png"/>
          <p:cNvPicPr/>
          <p:nvPr/>
        </p:nvPicPr>
        <p:blipFill>
          <a:blip r:embed="rId1"/>
          <a:stretch/>
        </p:blipFill>
        <p:spPr>
          <a:xfrm>
            <a:off x="571680" y="4429080"/>
            <a:ext cx="2809800" cy="1647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H:\Documents and Settings\Nastya\Мои документы\lebed04.png"/>
          <p:cNvPicPr/>
          <p:nvPr/>
        </p:nvPicPr>
        <p:blipFill>
          <a:blip r:embed="rId2"/>
          <a:stretch/>
        </p:blipFill>
        <p:spPr>
          <a:xfrm>
            <a:off x="3714840" y="4572000"/>
            <a:ext cx="1954080" cy="164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:\Documents and Settings\Nastya\Мои документы\Конкурс\гагарка2.jpg"/>
          <p:cNvPicPr/>
          <p:nvPr/>
        </p:nvPicPr>
        <p:blipFill>
          <a:blip r:embed="rId3"/>
          <a:stretch/>
        </p:blipFill>
        <p:spPr>
          <a:xfrm>
            <a:off x="6211800" y="4352760"/>
            <a:ext cx="181620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00040" y="1071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5395"/>
                </a:solidFill>
                <a:latin typeface="Arial"/>
                <a:ea typeface="Arial"/>
              </a:rPr>
              <a:t>Какая арктическая птица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5395"/>
                </a:solidFill>
                <a:latin typeface="Arial"/>
                <a:ea typeface="Arial"/>
              </a:rPr>
              <a:t>не умеет плавать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61437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1000080" y="4357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ту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350028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кай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ольга</cp:lastModifiedBy>
  <dcterms:modified xsi:type="dcterms:W3CDTF">2011-05-26T21:53:25Z</dcterms:modified>
  <cp:revision>713</cp:revision>
  <dc:subject/>
  <dc:title>Слайд 1</dc:title>
</cp:coreProperties>
</file>